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CDAA-E2BC-46A5-A318-54A9FE03B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problems and algebraic equations could be created for other agricultural commodities, such as corn, soybeans, or w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alculations also could be taught in an animal science cou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3BB5-1546-440E-9115-8CD41802D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8A0B-76C6-45DF-8F70-63F7A497E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6D32-EAD5-4AC0-B86E-3C000116C81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2708C-6D4C-4BF3-ACE5-55DA62B6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DAC1B-1FEA-4419-94DB-D28C276E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55AF8-E7A5-47BA-B25F-60266AC6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8F896-6C09-4EDA-BEC1-1141103B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2F7FB-0E04-4EEA-A761-CE26D658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4E7B6-18CE-4305-AA40-9F391AF4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DC4FD-E833-4947-B565-621A5C51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AA366-6D97-43BC-A0A7-61BCE1C8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5BBC5-884A-4F78-BD1C-335D16CE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28E21-C414-474E-955B-C362D80B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4D22-74BE-49C8-AC51-ABA80D5CBB7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2E123-E65F-4F0C-94A8-60FA9539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7A4CF-E433-4B75-BDC4-D8EF5872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6099E-EDC9-4E5D-8FFD-B4AABF21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01B7E-5B25-437B-9B29-E361D433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7AA22-F852-445F-AFDC-436A3C9A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6258B-2EE0-46AD-ACB1-6333C08D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02F5F-3209-41B3-A0C5-8542608F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4ACF2-5925-4227-815D-32D3EDD9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25994-0ABE-4223-945A-437C6E61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85281-99B0-4FEB-83A4-723C20BA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99EB-21AD-40DB-9454-3E62D47227B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C1A48-8176-4EB1-B515-50944B39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8EEA8-0913-4382-998D-95FD3E44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49E85-0CD9-4007-90E7-36D7C3D7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AF2A1-E39B-438F-B4D0-4FE39227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C04A8-B1EE-46AC-A021-422A9067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10B9F-E668-4D20-9313-3B20FF87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6A82E-1D91-4F2A-9004-B1E39449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99302-6345-4A10-936E-E984141B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B474F-D201-46C9-BED9-9A1E2F21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1E9A3-F5D2-42D4-9BB1-5C4201AE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FED-7FA2-454F-BA5C-15D2859BBE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805A7-309F-4E05-A1F2-5B1833E9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B0914-7328-40FF-B782-B8BA9EBC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2F3F2-71F1-45A2-BF7C-34842B31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16E97-2180-489E-B6CF-3197C564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48220-E36E-4393-8FBE-448CEB8D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F93AA-717C-4E2E-B8F1-F0B771E2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F624E-3661-4554-BABA-85833F7B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CF0C5-37C7-4BE4-937E-D4666670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DAE5A-3419-4529-AFC5-4D20E1F8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442EC-6610-4691-9B5A-104957C8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35D-02F9-4AEB-9A6E-0C109235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CF284-47C2-4283-9975-BF12FF0A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2162C-01BD-49DE-BBA3-4D2AA8A6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D9B06-C67B-4743-8E6F-DD80004B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4CD19-32E1-4C5E-98AC-5F92B46B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8C073-38FD-41BD-870F-F463450C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F02-1B12-4DB0-AF9F-89E68F80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1F0-3F70-473B-8865-8EF1EEE8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7AE-43F9-4A4F-9F32-65450007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677-5960-403A-87BD-79C01A27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703-D4D2-4745-8CDC-C461A56D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762E-0970-4E0A-9F34-DFFDBA05D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584-6AA6-4E16-816D-934AE25D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72C-F040-4128-9BE2-D71A4660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45D3-95C2-44F6-8F78-19E0ECB3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080-A915-4216-8AEA-3652DBFE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FDF-32F7-42A9-9B08-3359F74EE3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DB4A-5DAC-408A-84BB-2CF19346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9650-76E9-4889-AA90-C6A05A93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5CEE-383B-47A8-91C9-247F3A9C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9C7B-4390-4965-A9E9-1070BEB5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8D04-0675-4EF3-A5EA-DB58838D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5398-4E28-4BDA-9A53-E96F87F69D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0A48-5163-445C-A9A0-45E6115D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3A74-2372-4C69-9B4F-2674E107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10C5-C4B8-4B44-8490-EC003C9E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0F51-1766-4F4F-AF9A-37B58021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1CD7-ECF4-47A4-9499-A4790FEF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8BDF-631D-4B75-AD30-4B041CA3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A308-9026-48D2-90E3-C975A843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8DEB4-A4C9-44CE-AD48-B0EEBCE2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F439D-0051-446C-895C-66E0E3AA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C601A-04C2-49BA-BF06-F48AE40A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8713-6791-4A2E-9ECD-61A6AFA07D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48D26-17CB-4516-87A6-29B64E51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4CD00-8F4F-4F15-A572-17CAD15C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EC04F-77A6-45CA-B068-2E319E68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5DC38-2554-47FA-852E-A4B29319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98850-2751-44BE-B090-9C19C35C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01453-5AF0-4411-8399-2C80078C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8907C-E4F8-4317-AE6D-9FB6FEE7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B624-77C9-418F-B984-BAC02813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2B47B-6643-4D6B-8C42-72528A53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136D3-668A-4F66-BDAA-BBC82848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927F-882A-4CEC-9BC8-B141C0A8899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60D61-0410-4D5C-ABC5-992E9FEB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45ADB-CC51-44D5-996B-944ECBFA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0FBE4-9899-49AA-BB55-636C4B68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5EABD-8596-4D1E-8C94-86BD665E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4B687-CEE9-473D-B8AD-CA216F44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5F912-4558-4375-99D6-9563A664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908A3-5909-4CBC-968A-1CB91150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4837-3DD1-4EBF-8FA4-68BC3C8D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6C968-6987-4F8F-A857-860DC673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83A79-B710-4459-AA6B-6F6813BB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6E9F-FA79-4355-B6E4-D2A63A85083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0EF7F-B902-44E3-BD33-63266C8D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47FA6-CFBA-4612-B566-7CB70CD9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E4681-F9D3-4090-AF9A-0E507AC9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0B6C4-5B9E-40BE-BEE0-B618B2C0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6A742-E263-4760-B8D2-C688D1F3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9F9EC-7D2B-4B50-A120-1532B915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5ED61-B99D-41B2-AF47-34332DB2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F26C8-61EC-4ECA-A5FA-FE282EEE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B50D4-2794-47BF-B4EF-97DF143F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E00C7-FEB3-4804-AFD0-8DE1E9C5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696E-ADA2-4514-81C3-9031BD98FBD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76618-198C-408C-87C0-CC968A1F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8C411-175D-44E4-B5B0-55DFAD92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4910E-D0CD-4743-BB41-409F80AE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059A7-4AD9-40CA-AEBF-68FE4BE3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4BD55-B50E-47FE-9C2B-D6950384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0A713-7CAB-4AC3-877D-6AD5731C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8236E-84A6-4E56-9FB8-DCDC10E9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48167-C9BA-438E-8929-02244727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FC53D-1A78-48D1-BD4D-EB5A8938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B9790-64B4-4FB2-B043-52BB7138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F9B7-144E-43C8-9C5A-1091DC7FAEA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ED7B0-DF49-4DD1-82ED-249BBF0A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E7BD0-48B4-4F61-BD81-68B1F88A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C2972-75BF-4854-8ACB-2592C42C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365D2-492C-4314-A4C4-5D230789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881F9-43F3-4D1D-A057-F61CFCF7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A815E-ED79-4AF3-B98F-15752D2F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D2938-6952-4E73-BE13-3829C07B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F82B4-9DE7-4D91-BCD7-5776B24B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625CB-DDC7-4D31-9752-A24861DC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472F2-86C3-484F-91BF-C7838558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AD79-5922-403F-A6D7-FA099B152F1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707E1-9BE8-4DF3-8B58-156AA2D7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C7644-1F9C-417F-8BB3-AD81D8AB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AB130-0E23-438F-B729-8CC3DE14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CC1CF-E19C-4A6F-BE61-189A6940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36944-45E9-4D25-AB28-E2B7DC1F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D864C-F07D-47F6-B42A-B330F927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9B268-E255-4D69-A290-C0812441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84217-1DC4-4A2F-964B-08429FDF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47D72-F08E-4812-84E1-0F0DEBE7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C5C4E-6757-4D0B-A1C2-5CD8742B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174B-3781-40AD-B2F0-0F01E72AB310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1AAD-5AD2-425C-AB72-02DBC6CA3E2F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AF32-CB65-4668-B0C4-D2EEF0A3AB96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C647-60CA-42D0-83F9-63BBBCF7346E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traight Connector 7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9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C4A1-9358-48A5-A825-73E35A1FE910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559D-CE3F-4673-BCCF-CA43F2080DB7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traight Connector 7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2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D0E6-F8A4-4E0F-981D-71E0DC844BEE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95EB-3D93-4F38-B1E1-5646FCB804BD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7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3849-5326-44E6-919A-584B59A6A322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7746-7CC1-4F94-B628-E0E86BC2CDDA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667D-BD91-41F8-9D9B-5E57AF976273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1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B417-E413-43D9-8193-D49B408AE1C6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SOUTH DAKOTA AFNR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Verdana"/>
              </a:rPr>
              <a:t>Academic Integration Activities: Example #7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1.04 * 524 * 13 + 1.09 * 648 * 17 – 15 (13 + 17) = x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eview order of operations: PEMDAS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Determine what x means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x is dollar amount rancher receives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alculate inside of parenthesis first, working left to righ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3 + 17 = 30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ubstitute those numbers into the equation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.04 * 524 * 13 + 1.09 * 648 * 17 – 15 (30) = x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Multiply, working left to righ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.04 * 524 * 13 = 7,084.48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.09 * 648 * 17 = 12,007.44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5 * 30 = 450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ubstitute those numbers into the equation.  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7,084.48 + 12,007.44 – 450 = x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dd, and then subtract, working left to righ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7,084.48 + 12,007.44 – 450 = 18,641.92 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x = 18,641.92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The rancher’s check is $18,641.92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 rancher decides to sell his calves. The 55 head of steers average 622 lbs, and 59 heifers average 601 lbs. Both bunches bring $1.11. He wants to average out four head for his son. How much does his son make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The son makes $2, 713.42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0" name="AutoShape 8"/>
          <p:cNvSpPr/>
          <p:nvPr/>
        </p:nvSpPr>
        <p:spPr>
          <a:xfrm>
            <a:off x="4343400" y="1600200"/>
            <a:ext cx="90360" cy="571680"/>
          </a:xfrm>
          <a:custGeom>
            <a:avLst/>
            <a:gdLst>
              <a:gd name="textAreaLeft" fmla="*/ 0 w 90360"/>
              <a:gd name="textAreaRight" fmla="*/ 32760 w 9036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9"/>
          <p:cNvSpPr/>
          <p:nvPr/>
        </p:nvSpPr>
        <p:spPr>
          <a:xfrm flipH="1">
            <a:off x="714240" y="1600200"/>
            <a:ext cx="214560" cy="571680"/>
          </a:xfrm>
          <a:custGeom>
            <a:avLst/>
            <a:gdLst>
              <a:gd name="textAreaLeft" fmla="*/ 360 w 214560"/>
              <a:gd name="textAreaRight" fmla="*/ 77760 w 21456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0"/>
          <p:cNvSpPr/>
          <p:nvPr/>
        </p:nvSpPr>
        <p:spPr>
          <a:xfrm>
            <a:off x="-201600" y="16020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1.11 (55 * 622 + 59 * 6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(55 + 59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* 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 rancher sells 17 head of calves. They bring $1.03. His check (before charges were subtracted) was $9,928.17. How much did the calves weigh on average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9,928.17 = (17 * 1.03)x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x = 567 lbs average weigh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609480" y="19000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Agribusiness Entrepreneurship students apply algebraic equations to livestock market p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G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gribusiness Entrepreneurship—E.3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use strategies for optimum marketing of agricultural commodities. 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CADEMIC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9-12.A.2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are able to use algebraic properties to transform multi-step, single-variable, first-degree equations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Order of operations: When performing algebraic equations, a certain order of mathematical operations should be followed. Use the acronym shown here to remember the order and work left to righ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PEMDAS (Please Excuse My Dear Aunt Sally)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Parenthesis—Exponents—Multiply—Divide—Add—Subtrac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 rancher sells 43 head of calves, each weighing an average of 634 lbs. His check (before charges were subtracted) was $28,625. How much did the calves bring per pound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28,625 = (634 * 43)x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x = $1.05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eview order of operations: PEMDAS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Determine what x means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x is dollar amount per pound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alculate inside of parenthesis firs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634 * 43 = 27,262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ubstitute that number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28,625 = 27,262x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Divide on both sides to find X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e3b30"/>
                </a:solidFill>
                <a:uFillTx/>
                <a:latin typeface="Verdana"/>
              </a:rPr>
              <a:t>28,625</a:t>
            </a: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 =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Verdana"/>
              </a:rPr>
              <a:t>27,262x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27,262    27,262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.05 = x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x = $1.05 per pound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 rancher wants to sell two loads of calves. The first bunch of 13 calves averages 524 lbs, and the second bunch of 17 averages 648 pounds. He gets two checks – one for each bunch. The smaller herd brings $1.09 per pound; the larger bunch brings $1.04 per pound. There is $15 per calf deducted for various charges, including commission, beef check-off, vet services, etc. How much does he make total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</cp:lastModifiedBy>
  <dcterms:modified xsi:type="dcterms:W3CDTF">2010-08-05T16:09:56Z</dcterms:modified>
  <cp:revision>19</cp:revision>
  <dc:subject/>
  <dc:title>South Dakota Ag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69236474</vt:r8>
  </property>
  <property fmtid="{D5CDD505-2E9C-101B-9397-08002B2CF9AE}" pid="3" name="_AuthorEmail">
    <vt:lpwstr>Tiffany.Sanderson@state.sd.us</vt:lpwstr>
  </property>
  <property fmtid="{D5CDD505-2E9C-101B-9397-08002B2CF9AE}" pid="4" name="_AuthorEmailDisplayName">
    <vt:lpwstr>Sanderson, Tiffany</vt:lpwstr>
  </property>
  <property fmtid="{D5CDD505-2E9C-101B-9397-08002B2CF9AE}" pid="5" name="_EmailSubject">
    <vt:lpwstr>AFNR Integration Strategies - 2 of 2</vt:lpwstr>
  </property>
</Properties>
</file>